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33985"/>
        <c:axId val="75443849"/>
      </c:barChart>
      <c:catAx>
        <c:axId val="13333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43849"/>
        <c:crosses val="autoZero"/>
        <c:auto val="1"/>
        <c:lblAlgn val="ctr"/>
        <c:lblOffset val="100"/>
        <c:noMultiLvlLbl val="0"/>
      </c:catAx>
      <c:valAx>
        <c:axId val="75443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33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885-9B53-4279-B9DE-012D55F6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80D-79BD-4A7C-B489-8A60E40F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1BB-182B-4486-B918-AFE82634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DAB-9D9C-40BD-8E96-6DF5C3F7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83B-5F60-4F4B-BBB5-5743A570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5FC-956A-46FD-AC34-B38CC506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3E1-3318-4A2A-B158-0B041D3B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CB2-7DD6-48FE-8202-65A8F4B9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BA5-6B98-4CF3-BB62-B3702175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F19-D9F7-41EC-8D52-E979C05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A3B-71DB-4A17-8F57-4794D3E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3E8-614D-4FB1-AD4D-9E5A5638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AFF85-4DB5-4A16-8AEC-34A8A042B8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