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34912"/>
        <c:axId val="22015346"/>
      </c:barChart>
      <c:catAx>
        <c:axId val="80434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15346"/>
        <c:crosses val="autoZero"/>
        <c:auto val="1"/>
        <c:lblAlgn val="ctr"/>
        <c:lblOffset val="100"/>
        <c:noMultiLvlLbl val="0"/>
      </c:catAx>
      <c:valAx>
        <c:axId val="220153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34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B4EF-4A84-4A29-A372-BAB44070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A4C-A8CB-4A0A-8691-787AA7AC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C1F-7014-4557-B93A-69886613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CF4-6391-42E4-A50E-7B2C23C0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ACB5-048A-472B-AAD1-009740EF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E185-4AAD-4E2D-A658-2E898D1B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4321-F60A-40D7-9AB9-B8103122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4A27-C15D-467E-86EF-6DDA37BB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2EEA-8E7A-46E4-9800-2CF564E2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EF5-6AB5-4747-B3BB-BBB3BC9C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39E7-082A-4AAA-A551-DBF93806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400-C4D3-4CCF-B064-A8F86346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516A4-8FC6-4383-91AF-12CFCD7E45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