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7297"/>
        <c:axId val="97210936"/>
      </c:barChart>
      <c:catAx>
        <c:axId val="4097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10936"/>
        <c:crosses val="autoZero"/>
        <c:auto val="1"/>
        <c:lblAlgn val="ctr"/>
        <c:lblOffset val="100"/>
        <c:noMultiLvlLbl val="0"/>
      </c:catAx>
      <c:valAx>
        <c:axId val="97210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7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526-9C68-4E11-B9FB-F63DB70A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344-A3FB-4348-ACB9-EC2F226E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660-465F-4767-9F1A-16BB6A64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912-B995-4A79-8A16-BC2F5F08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244-2894-4B54-BAC9-5C26A281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A8F-C755-444D-8881-E816D64D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307-4929-4690-9748-F6D3683A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737-DF74-43FC-9DFE-55648459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385-5148-41AA-8C36-FD107296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530-C509-47A3-B7B9-F4D7792B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16E-16FA-49CD-A25B-05916CA3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1FD-A0A7-4B3B-9BC0-3CB6DCD7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BA750-18C6-478A-AFEE-A892866ECA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