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165466"/>
        <c:axId val="73006799"/>
      </c:barChart>
      <c:catAx>
        <c:axId val="481654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06799"/>
        <c:crosses val="autoZero"/>
        <c:auto val="1"/>
        <c:lblAlgn val="ctr"/>
        <c:lblOffset val="100"/>
        <c:noMultiLvlLbl val="0"/>
      </c:catAx>
      <c:valAx>
        <c:axId val="73006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654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B921-E06D-4E94-AE3E-5D6AAFE9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878-0982-4C6A-8EC0-3B69510D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8472-B308-4248-A9DD-BB5C22DF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3E76-39B9-475C-B201-8392EE4F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355-A90D-4D56-9FC3-A59C9FB7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C766-DDBC-45F4-8FC4-4360EEEC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1AF4-7F50-4982-8661-0D049B59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EDC5-A105-4721-8E6F-492C8DDC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8B2F-C345-42D1-B46B-2EAA4900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2403-4184-4AA3-B116-9E07894D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A24E-6662-44CF-B91E-FCAF671C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A3BB-8209-4216-ACB3-8A633AD9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F0088A-8FEC-4805-8C6B-AB6A75A64C3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