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21453"/>
        <c:axId val="54136724"/>
      </c:barChart>
      <c:catAx>
        <c:axId val="91221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36724"/>
        <c:crosses val="autoZero"/>
        <c:auto val="1"/>
        <c:lblAlgn val="ctr"/>
        <c:lblOffset val="100"/>
        <c:noMultiLvlLbl val="0"/>
      </c:catAx>
      <c:valAx>
        <c:axId val="54136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21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014-3DF9-446A-992F-BCE209C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1B4-408E-4EBB-AD02-363D407C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B38-780E-42D0-8F0A-0B1D9E83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602-5511-4271-96CD-A3B051A4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37A-4C13-4024-A9A2-8114909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DF-9EDA-47AE-B6E1-675EE3F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915-6051-4E29-A94F-03708AB9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9E-9098-4F1F-BF05-B253AC96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697-C344-4346-90B0-14160C6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14E-7DF5-4F43-B39F-FBE936B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846-020B-40D3-84C1-A918830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F75-393A-4EBE-9D33-059F62C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6D7FD-C289-4869-8A0A-4CBB6A67D5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