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440186"/>
        <c:axId val="16497997"/>
      </c:barChart>
      <c:catAx>
        <c:axId val="904401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97997"/>
        <c:crosses val="autoZero"/>
        <c:auto val="1"/>
        <c:lblAlgn val="ctr"/>
        <c:lblOffset val="100"/>
        <c:noMultiLvlLbl val="0"/>
      </c:catAx>
      <c:valAx>
        <c:axId val="164979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401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1DD2-6A65-444F-B323-22178FFA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763F-ACDA-4C99-ACA2-4E2EE170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BA65-698B-4946-98AF-17BD9C97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97E1-8297-4CFC-BDFD-03FC833A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B6FC-5080-48EA-ABC1-40959C83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D503-3183-447A-BCE8-01867DAE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C09E-0B5C-4F94-A6FC-5C55C8E4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9112-B230-456E-8935-9015EA06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CA6B-D267-456B-8913-2331C5E8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852C-EF8B-4BDE-9373-4DC9B45C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973A-CABF-49AE-8A33-E45B1262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5F92-E1D3-4C60-9630-FD696CFE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76973-0379-4A86-8933-2C8A5473CE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