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82022"/>
        <c:axId val="67334785"/>
      </c:barChart>
      <c:catAx>
        <c:axId val="30482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34785"/>
        <c:crosses val="autoZero"/>
        <c:auto val="1"/>
        <c:lblAlgn val="ctr"/>
        <c:lblOffset val="100"/>
        <c:noMultiLvlLbl val="0"/>
      </c:catAx>
      <c:valAx>
        <c:axId val="67334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2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777-C6F3-49EA-A350-C2A0AB02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AB8-9FBB-40D0-9BD7-3C289B68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17C-03D8-48F4-96E3-B5322020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87B-AEBD-4495-942D-F8F632D3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E1A-A3F8-44CD-9726-AF2C718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52B-B492-4FB3-9AFC-5C6A72B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B7E-0B9B-424D-A9D9-6046E201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0E3-18B6-4EB2-8AA1-42E75A3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0E5-AF81-4B8C-AB3F-E1409496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A1C-E4C0-4BEC-BDF0-642DCB1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A20-B8F7-419C-B393-D7C13DB0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AEF-4507-4EF0-A9C5-35DC212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658C6-835F-4A9D-AF9A-1A501EA41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