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27443"/>
        <c:axId val="24855839"/>
      </c:barChart>
      <c:catAx>
        <c:axId val="438274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855839"/>
        <c:crosses val="autoZero"/>
        <c:auto val="1"/>
        <c:lblAlgn val="ctr"/>
        <c:lblOffset val="100"/>
        <c:noMultiLvlLbl val="0"/>
      </c:catAx>
      <c:valAx>
        <c:axId val="248558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274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C6E5-6CC9-40B7-A9B2-1F77B0BA5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1262-ADE4-4A3C-B036-D5B9081A0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BB94-EFBF-4FAB-A7B9-998FF9DED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3592-CD62-4ED4-B41B-DFE377706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7511-C03F-40CB-AE5D-357A7ED4C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83DD-CF8C-454B-8AA4-8B92FC4BF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DA36-6486-44D5-9DBF-6437034BB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CFE5-2D76-4355-911F-917D3AC3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A825-54C6-473E-9783-8F9511E5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CA97-8095-455C-A58A-46A247919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D79D-1330-4C04-A433-60027F5D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F51-87BF-4B21-B862-3F7FD234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C2E5A-0721-4895-83BC-AB37B6E99C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