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116234"/>
        <c:axId val="44166327"/>
      </c:barChart>
      <c:catAx>
        <c:axId val="931162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66327"/>
        <c:crosses val="autoZero"/>
        <c:auto val="1"/>
        <c:lblAlgn val="ctr"/>
        <c:lblOffset val="100"/>
        <c:noMultiLvlLbl val="0"/>
      </c:catAx>
      <c:valAx>
        <c:axId val="441663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162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7B73-108B-4BF7-ADD1-344F5CC2F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06B7-9846-40CE-91C6-AFCA6B3F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F7E5-7615-419D-9344-B9AD99A8B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735C-9172-44DE-9990-C8B83850E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2735-3FE9-49F8-AC15-76E747BE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698A-A386-4B5D-A586-9638448D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F2A4-E3A8-4954-AA19-6F2EBB9D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21EC-193F-4FA1-9106-68624399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2AC1-EC46-4A49-87A2-07034844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ED20-7FD0-4656-B8FA-2629A817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001C-C0CE-4AE2-AA19-921C7B2B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3777-AFC0-494F-9C3F-FF2F78BC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B765E-7470-4A27-9408-E27B146B73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