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22385"/>
        <c:axId val="83509165"/>
      </c:barChart>
      <c:catAx>
        <c:axId val="84322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09165"/>
        <c:crosses val="autoZero"/>
        <c:auto val="1"/>
        <c:lblAlgn val="ctr"/>
        <c:lblOffset val="100"/>
        <c:noMultiLvlLbl val="0"/>
      </c:catAx>
      <c:valAx>
        <c:axId val="83509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2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2652-C69B-4FF6-9D21-BE040825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703-CEA8-4779-BC84-05228584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2DC-2A74-4893-9780-1BEDEA75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B47D-0109-40E5-95BF-89558694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2C6-52AF-448D-8188-00D51841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B1C-408C-4908-AD55-67DC1E22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F51-CC9F-4D94-A350-F193727D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011-B0F5-4A74-BBB4-D09E9B18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4A5-B3F1-4F6C-B69F-54211221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D3B-9D4A-4276-9C18-F140620A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FCC-7BB8-467A-9D75-3335E872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7C8-8736-47F0-9B33-7AF748DB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09687-C5A9-4A78-924B-24AB966057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