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BAE67-DE82-4430-8442-E66C7B2ED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95553-01A3-4E7B-B0B3-15B480094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94768-116A-4E9D-ADCF-2C2EE5E80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015BE-6032-446D-821C-11F48C0A7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A2A57-0DF8-4B69-8794-7F908F867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A00DE-612F-4935-A16A-EAA8383FC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9F708-35EF-41AB-B43F-58713973F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C656F-C6AA-4243-A56C-C8F26005E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780AB-6087-4905-A42D-73621F28F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1FDB6-ADE0-4D75-A0DA-DBC88BCED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B3D36-AE1E-473E-B38E-5FC27D71A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4B2AB-DD9C-4EAD-A67B-1CD7726D2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EB54A-C184-4DCB-A52D-9FC7271C6ECE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048440" y="121428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8963" y="-32344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148520" y="15210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589640" y="174456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89213" y="4000"/>
                </a:lnTo>
                <a:lnTo>
                  <a:pt x="89213" y="-16594"/>
                </a:lnTo>
                <a:lnTo>
                  <a:pt x="-68438" y="-37294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410160" y="105732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250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068960" y="1809720"/>
            <a:ext cx="9144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4350" y="-50850"/>
                </a:moveTo>
                <a:lnTo>
                  <a:pt x="-1800" y="40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19840" y="11574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597640" y="196524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43425" y="4000"/>
                </a:lnTo>
                <a:lnTo>
                  <a:pt x="43425" y="-25313"/>
                </a:lnTo>
                <a:lnTo>
                  <a:pt x="-109950" y="-5473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570720" y="620640"/>
            <a:ext cx="914400" cy="914400"/>
          </a:xfrm>
          <a:prstGeom prst="borderCallout3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062840" y="231156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43888" y="-49725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380280" y="247032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ounded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618160" y="203688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51150" y="4000"/>
                </a:lnTo>
                <a:lnTo>
                  <a:pt x="51150" y="-29925"/>
                </a:lnTo>
                <a:lnTo>
                  <a:pt x="-125475" y="-63956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Oval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Cloud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380360" y="912960"/>
            <a:ext cx="914400" cy="914400"/>
          </a:xfrm>
          <a:prstGeom prst="borderCallout1">
            <a:avLst>
              <a:gd name="adj1" fmla="val -161588"/>
              <a:gd name="adj2" fmla="val -1800"/>
              <a:gd name="adj3" fmla="val 18900"/>
              <a:gd name="adj4" fmla="val -18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265880" y="208764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-169791"/>
              <a:gd name="adj4" fmla="val -6331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151680" y="1077840"/>
            <a:ext cx="91440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313541"/>
              <a:gd name="adj5" fmla="val -129689"/>
              <a:gd name="adj6" fmla="val -6303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805280" y="158112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64500" y="4000"/>
                </a:lnTo>
                <a:lnTo>
                  <a:pt x="64500" y="-11138"/>
                </a:lnTo>
                <a:lnTo>
                  <a:pt x="-71850" y="-2638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140440" y="40968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48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34:46Z</dcterms:created>
  <dc:creator>tb121644</dc:creator>
  <dc:description/>
  <dc:language>en-US</dc:language>
  <cp:lastModifiedBy>tb121644</cp:lastModifiedBy>
  <dcterms:modified xsi:type="dcterms:W3CDTF">2005-05-25T12:19:33Z</dcterms:modified>
  <cp:revision>2</cp:revision>
  <dc:subject/>
  <dc:title>Slide 1</dc:title>
</cp:coreProperties>
</file>